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23F632-E59F-4798-B4F9-F4D04C057F38}"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18C76-9421-4F1B-BB87-D3A94E225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1F318-0DE9-40DB-82C2-94BEC02F1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BC4C7-7B5B-4208-91AD-8110430DE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D047B-9A1F-4B97-904A-81DEDDAB8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031BD-108E-4B70-B04C-A7F6A3477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98A6B-B4A5-4C75-AF87-52E28A378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459F1-C92D-448F-A310-7A6F15488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BAF19-73FD-4F6C-B3EF-58E1A3E9A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AC073-EBEA-4A5B-B291-2D14290E3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529659-3D16-4937-9258-FE82D43FF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5283C-FFF2-4FE5-8C56-03F490B4E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469A-0831-4E29-A3B0-4D4D1FE88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0CD684-7DB7-4081-A87D-796AEA854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0889B-F53A-4F88-B8B1-7B4BF9B8C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7084A-5A87-4CAB-A073-A60EDEA01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32EDB-F82D-4C14-9767-6A40C6C52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74091-D0EF-440E-8B06-73CA147296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254CD-E409-4F1B-902A-491AEDEE3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DFE02-590E-479C-B5D6-6F809DAE8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89F1-5A8D-4709-B8D4-C223C3916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19B4B-F861-4FAD-B7AB-1FD5BF254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A15A-A8C5-4E42-A25F-5A2BECA9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D2BD7-CC2F-4072-8E27-4BB7A079B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BA4DE-450F-4C10-8601-6DE57DA00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7129-5993-441F-A367-7AEDFC6D6417}"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F643-182A-40FF-82CD-7B82C251FCC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6516-D48D-40EC-85C2-46070F119404}"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5F36D-EDBD-48C4-8E41-E6FAA465E64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EC13D08-496E-4FA4-A3A7-3B6C18435277}" type="slidenum">
              <a:t>10</a:t>
            </a:fld>
          </a:p>
        </p:txBody>
      </p:sp>
      <p:sp>
        <p:nvSpPr>
          <p:cNvPr id="5" name="PlaceHolder 4"/>
          <p:cNvSpPr>
            <a:spLocks noGrp="1"/>
          </p:cNvSpPr>
          <p:nvPr>
            <p:ph type="dt" idx="1"/>
          </p:nvPr>
        </p:nvSpPr>
        <p:spPr/>
        <p:txBody>
          <a:bodyPr/>
          <a:p>
            <a:fld id="{9A30192B-F171-44FF-BDC6-8A8E1C253120}" type="datetime1">
              <a:rPr lang="en-US"/>
              <a:t>07/28/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4B8EECB-B2F8-49FD-B516-C2DBA8ED6839}" type="slidenum">
              <a:t>11</a:t>
            </a:fld>
          </a:p>
        </p:txBody>
      </p:sp>
      <p:sp>
        <p:nvSpPr>
          <p:cNvPr id="6" name="PlaceHolder 5"/>
          <p:cNvSpPr>
            <a:spLocks noGrp="1"/>
          </p:cNvSpPr>
          <p:nvPr>
            <p:ph type="dt" idx="1"/>
          </p:nvPr>
        </p:nvSpPr>
        <p:spPr/>
        <p:txBody>
          <a:bodyPr/>
          <a:p>
            <a:fld id="{25FDCE43-66D9-4C5B-AC31-B9AEF1B9F810}" type="datetime1">
              <a:rPr lang="en-US"/>
              <a:t>07/28/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F78313E-DEB8-469C-A36E-361664678129}" type="slidenum">
              <a:t>12</a:t>
            </a:fld>
          </a:p>
        </p:txBody>
      </p:sp>
      <p:sp>
        <p:nvSpPr>
          <p:cNvPr id="6" name="PlaceHolder 5"/>
          <p:cNvSpPr>
            <a:spLocks noGrp="1"/>
          </p:cNvSpPr>
          <p:nvPr>
            <p:ph type="dt" idx="1"/>
          </p:nvPr>
        </p:nvSpPr>
        <p:spPr/>
        <p:txBody>
          <a:bodyPr/>
          <a:p>
            <a:fld id="{66637C62-D63E-4D67-97E5-3E68A39CA938}"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F9CF962-6245-4997-83A8-AAC644FE6CAD}" type="slidenum">
              <a:t>13</a:t>
            </a:fld>
          </a:p>
        </p:txBody>
      </p:sp>
      <p:sp>
        <p:nvSpPr>
          <p:cNvPr id="6" name="PlaceHolder 5"/>
          <p:cNvSpPr>
            <a:spLocks noGrp="1"/>
          </p:cNvSpPr>
          <p:nvPr>
            <p:ph type="dt" idx="1"/>
          </p:nvPr>
        </p:nvSpPr>
        <p:spPr/>
        <p:txBody>
          <a:bodyPr/>
          <a:p>
            <a:fld id="{C5204CD8-7854-44E3-A039-6EC3456664E9}"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EADBC98-3440-46C2-913A-BFDFC878ADB0}" type="slidenum">
              <a:t>14</a:t>
            </a:fld>
          </a:p>
        </p:txBody>
      </p:sp>
      <p:sp>
        <p:nvSpPr>
          <p:cNvPr id="6" name="PlaceHolder 5"/>
          <p:cNvSpPr>
            <a:spLocks noGrp="1"/>
          </p:cNvSpPr>
          <p:nvPr>
            <p:ph type="dt" idx="1"/>
          </p:nvPr>
        </p:nvSpPr>
        <p:spPr/>
        <p:txBody>
          <a:bodyPr/>
          <a:p>
            <a:fld id="{23A6102A-2CE0-4CB1-9C82-CE2F5F4CF59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5A878E6-F0DC-4829-818A-4737AC5D9945}" type="slidenum">
              <a:t>15</a:t>
            </a:fld>
          </a:p>
        </p:txBody>
      </p:sp>
      <p:sp>
        <p:nvSpPr>
          <p:cNvPr id="6" name="PlaceHolder 5"/>
          <p:cNvSpPr>
            <a:spLocks noGrp="1"/>
          </p:cNvSpPr>
          <p:nvPr>
            <p:ph type="dt" idx="1"/>
          </p:nvPr>
        </p:nvSpPr>
        <p:spPr/>
        <p:txBody>
          <a:bodyPr/>
          <a:p>
            <a:fld id="{4EA25FB2-E053-4E28-84A0-F124BC0D377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80ADDA5-2471-4BE4-89B6-1F0237A35FEC}" type="slidenum">
              <a:t>2</a:t>
            </a:fld>
          </a:p>
        </p:txBody>
      </p:sp>
      <p:sp>
        <p:nvSpPr>
          <p:cNvPr id="6" name="PlaceHolder 5"/>
          <p:cNvSpPr>
            <a:spLocks noGrp="1"/>
          </p:cNvSpPr>
          <p:nvPr>
            <p:ph type="dt" idx="1"/>
          </p:nvPr>
        </p:nvSpPr>
        <p:spPr/>
        <p:txBody>
          <a:bodyPr/>
          <a:p>
            <a:fld id="{60F2B67F-3DBA-4C2D-8033-77988E27DC09}" type="datetime1">
              <a:rPr lang="en-US"/>
              <a:t>07/28/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52D12F4-DDF7-458A-8C11-AEA1EF013D83}" type="slidenum">
              <a:t>3</a:t>
            </a:fld>
          </a:p>
        </p:txBody>
      </p:sp>
      <p:sp>
        <p:nvSpPr>
          <p:cNvPr id="6" name="PlaceHolder 5"/>
          <p:cNvSpPr>
            <a:spLocks noGrp="1"/>
          </p:cNvSpPr>
          <p:nvPr>
            <p:ph type="dt" idx="1"/>
          </p:nvPr>
        </p:nvSpPr>
        <p:spPr/>
        <p:txBody>
          <a:bodyPr/>
          <a:p>
            <a:fld id="{05DEB8C0-BFB8-400B-A584-AC219625A392}" type="datetime1">
              <a:rPr lang="en-US"/>
              <a:t>07/28/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A23A827-6A55-4303-8A3F-9FEA2D2D68ED}" type="slidenum">
              <a:t>4</a:t>
            </a:fld>
          </a:p>
        </p:txBody>
      </p:sp>
      <p:sp>
        <p:nvSpPr>
          <p:cNvPr id="6" name="PlaceHolder 5"/>
          <p:cNvSpPr>
            <a:spLocks noGrp="1"/>
          </p:cNvSpPr>
          <p:nvPr>
            <p:ph type="dt" idx="1"/>
          </p:nvPr>
        </p:nvSpPr>
        <p:spPr/>
        <p:txBody>
          <a:bodyPr/>
          <a:p>
            <a:fld id="{24BD6CF9-1650-46B4-9EED-FCA6173D3858}" type="datetime1">
              <a:rPr lang="en-US"/>
              <a:t>07/28/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3062ADD-B2B2-4133-BBE6-38E3EE7F99B2}" type="slidenum">
              <a:t>5</a:t>
            </a:fld>
          </a:p>
        </p:txBody>
      </p:sp>
      <p:sp>
        <p:nvSpPr>
          <p:cNvPr id="5" name="PlaceHolder 4"/>
          <p:cNvSpPr>
            <a:spLocks noGrp="1"/>
          </p:cNvSpPr>
          <p:nvPr>
            <p:ph type="dt" idx="1"/>
          </p:nvPr>
        </p:nvSpPr>
        <p:spPr/>
        <p:txBody>
          <a:bodyPr/>
          <a:p>
            <a:fld id="{A6ACA750-0A7B-492A-80B2-7B73B3D374A0}" type="datetime1">
              <a:rPr lang="en-US"/>
              <a:t>07/28/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D41B108-D8E3-4500-9824-C8457F9B1F87}" type="slidenum">
              <a:t>6</a:t>
            </a:fld>
          </a:p>
        </p:txBody>
      </p:sp>
      <p:sp>
        <p:nvSpPr>
          <p:cNvPr id="5" name="PlaceHolder 4"/>
          <p:cNvSpPr>
            <a:spLocks noGrp="1"/>
          </p:cNvSpPr>
          <p:nvPr>
            <p:ph type="dt" idx="1"/>
          </p:nvPr>
        </p:nvSpPr>
        <p:spPr/>
        <p:txBody>
          <a:bodyPr/>
          <a:p>
            <a:fld id="{37C971D1-EE9F-4223-9178-7BFB1E449D06}" type="datetime1">
              <a:rPr lang="en-US"/>
              <a:t>07/28/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2E13FB8-44E5-4B10-BD6D-1D4B03194D2D}" type="slidenum">
              <a:t>7</a:t>
            </a:fld>
          </a:p>
        </p:txBody>
      </p:sp>
      <p:sp>
        <p:nvSpPr>
          <p:cNvPr id="6" name="PlaceHolder 5"/>
          <p:cNvSpPr>
            <a:spLocks noGrp="1"/>
          </p:cNvSpPr>
          <p:nvPr>
            <p:ph type="dt" idx="1"/>
          </p:nvPr>
        </p:nvSpPr>
        <p:spPr/>
        <p:txBody>
          <a:bodyPr/>
          <a:p>
            <a:fld id="{5C0AAD64-7559-47D1-A63D-CAE17432BCA2}" type="datetime1">
              <a:rPr lang="en-US"/>
              <a:t>07/28/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0E56688-8155-46BD-8B97-1960D81D3182}" type="slidenum">
              <a:t>8</a:t>
            </a:fld>
          </a:p>
        </p:txBody>
      </p:sp>
      <p:sp>
        <p:nvSpPr>
          <p:cNvPr id="6" name="PlaceHolder 5"/>
          <p:cNvSpPr>
            <a:spLocks noGrp="1"/>
          </p:cNvSpPr>
          <p:nvPr>
            <p:ph type="dt" idx="1"/>
          </p:nvPr>
        </p:nvSpPr>
        <p:spPr/>
        <p:txBody>
          <a:bodyPr/>
          <a:p>
            <a:fld id="{8F6DAF5C-7F6A-4052-B537-6A39D4D052D3}" type="datetime1">
              <a:rPr lang="en-US"/>
              <a:t>07/28/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30704E1-1FF4-4803-B8F1-625A392464A5}" type="slidenum">
              <a:t>9</a:t>
            </a:fld>
          </a:p>
        </p:txBody>
      </p:sp>
      <p:sp>
        <p:nvSpPr>
          <p:cNvPr id="5" name="PlaceHolder 4"/>
          <p:cNvSpPr>
            <a:spLocks noGrp="1"/>
          </p:cNvSpPr>
          <p:nvPr>
            <p:ph type="dt" idx="1"/>
          </p:nvPr>
        </p:nvSpPr>
        <p:spPr/>
        <p:txBody>
          <a:bodyPr/>
          <a:p>
            <a:fld id="{0D738963-CCA0-4FDE-B98A-F14B22D56089}" type="datetime1">
              <a:rPr lang="en-US"/>
              <a:t>07/28/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